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F13-BBA3-43EC-AAE9-06A7529D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96C-76BA-4C31-81D2-334D8E81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30C-09F0-4E7D-9703-C627F0B8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C7C-5F23-4C8F-81BD-3E5D96B0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FA9-A0A1-4C97-A584-9CCE72C6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A27-8092-4AD8-B281-F4573DA9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1CE-9CBB-440D-84BE-82DE993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79D-6E3A-4831-AE85-4A1B2A1E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286-C6D1-4B6E-96B7-DAE14863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7FC-ECE0-4628-8485-2B765CA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EDF-B22B-4BC9-B7C6-4917DEE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EF8-32F5-40F2-AC30-8075371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EC97-473A-4C92-898F-D192F0ECF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j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ubione miejsce po ponad 30 lata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2760" y="6161040"/>
            <a:ext cx="81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razie obsługa ma urzędową przerwę – w żółtym domku na drugim brze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89640" y="594504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erpliwość (moja, a przede wszystkim kierowców) została w końcu nagrodz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awiło się dwóch panów którzy fachowo zabrali się do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800" y="6089760"/>
            <a:ext cx="867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zekiwałem, że praca rozpocznie się od „odpalenia” choćby najmniejszego diesl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 niespodzianka. Panowie przyłożyli się po prostu do liny. Ręczni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1800" y="5945040"/>
            <a:ext cx="887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i wszystko jasne. Żaden diesel nie jest potrzebn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a jest tak sprytnie poprowadzona (zaczepiona w dwóch miejscach promu) że prą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dy sam przesuwa prom w pożądanym kierunk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4160" y="608976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 widać „przednią linę”, tylna jest zanurzona całkowic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5200" y="5945040"/>
            <a:ext cx="749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raz widać wszystko. Prom rozpędził się tak, że szybko oddaliłem się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 miejsca lądowani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7280" y="616572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erwsze moje wrażenie – „to nie tu!!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240" y="608976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dnak po chwili zaczyna mi się miejsce powolutku przypomina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080" y="6089760"/>
            <a:ext cx="67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 prawej – informacja Nadleśnictwa o potrzebie małej retencji,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środku dosć brutalny „Zakaz Wjazd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240" y="6016680"/>
            <a:ext cx="836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kaz to nie jedyna zmiana – okazuje się że Nadleśnictwo cofnęło bezwzględn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kaz wjazdu i udostępniło bezpłatny pa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1120" y="6305400"/>
            <a:ext cx="71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olutku zaczyna mi się przypominać to co widziałem 30 lat 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1280" y="5945040"/>
            <a:ext cx="56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ża, jak dokładnie się przyjrzeć, tez się nie zmieni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91920" y="6156360"/>
            <a:ext cx="640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 tego kamienia ani tej budowli betonowej tu nie było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dowla to ujęcie do czerpania wody (na wypadek pożaru|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4520" y="5945040"/>
            <a:ext cx="89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racając poniosło mnie w stronę Brzegu Dolnego a ściślej – skusił mnie drogowska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„Prom 12 km, czynn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7:56:46Z</dcterms:created>
  <dc:creator>Roman</dc:creator>
  <dc:description/>
  <dc:language>en-US</dc:language>
  <cp:lastModifiedBy>Roman</cp:lastModifiedBy>
  <dcterms:modified xsi:type="dcterms:W3CDTF">2012-04-29T18:15:14Z</dcterms:modified>
  <cp:revision>8</cp:revision>
  <dc:subject/>
  <dc:title>Bajoro</dc:title>
</cp:coreProperties>
</file>