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A13A-48CE-4656-BC16-DCEB3842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F838-A480-431C-9D14-723B9E8C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521E-DD35-4E95-A515-3BF2DF4C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0227-FA8C-4C53-BFFF-AF7F36D49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E00A-1218-4B11-9AE4-1154DB39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8B1E-3E6C-45C8-B51C-60343B98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883D-DAE3-463C-9D99-B3255714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1D2B-C669-4688-9583-EECC1F52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D08C-54E3-4871-9149-4258B8F2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643D-18C8-4F4E-AEA8-C9E1C1FC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9A94-8F26-49AF-9002-050231AF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ED15-52B3-4940-BF4B-B4EA11F4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641D-1F72-4081-904F-FC6F85D56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jo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ubione miejsce po ponad 30 latach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92760" y="6161040"/>
            <a:ext cx="812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 razie obsługa ma urzędową przerwę – w żółtym domku na drugim brzeg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89640" y="5945040"/>
            <a:ext cx="851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erpliwość (moja, a przede wszystkim kierowców) została w końcu nagrodzo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bjawiło się dwóch panów którzy fachowo zabrali się do pra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7800" y="6089760"/>
            <a:ext cx="867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czekiwałem, że praca rozpocznie się od „odpalenia” choćby najmniejszego diesla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tu niespodzianka. Panowie przyłożyli się po prostu do liny. Ręcznie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91800" y="5945040"/>
            <a:ext cx="887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i wszystko jasne. Żaden diesel nie jest potrzebny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na jest tak sprytnie poprowadzona (zaczepiona w dwóch miejscach promu) że prąd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ody sam przesuwa prom w pożądanym kierunku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-74160" y="6089760"/>
            <a:ext cx="614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u widać „przednią linę”, tylna jest zanurzona całkowic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15200" y="5945040"/>
            <a:ext cx="749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raz widać wszystko. Prom rozpędził się tak, że szybko oddaliłem się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 miejsca lądowania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7280" y="6165720"/>
            <a:ext cx="42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ierwsze moje wrażenie – „to nie tu!!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9240" y="6089760"/>
            <a:ext cx="68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ednak po chwili zaczyna mi się miejsce powolutku przypomina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70080" y="6089760"/>
            <a:ext cx="67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Po prawej – informacja Nadleśnictwa o potrzebie małej retencji,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 środku dosć brutalny „Zakaz Wjazdu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17240" y="6016680"/>
            <a:ext cx="836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akaz to nie jedyna zmiana – okazuje się że Nadleśnictwo cofnęło bezwzględny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akaz wjazdu i udostępniło bezpłatny par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31120" y="6305400"/>
            <a:ext cx="71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wolutku zaczyna mi się przypominać to co widziałem 30 lat te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1280" y="5945040"/>
            <a:ext cx="568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aża, jak dokładnie się przyjrzeć, tez się nie zmienił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91920" y="6156360"/>
            <a:ext cx="640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i tego kamienia ani tej budowli betonowej tu nie było!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udowla to ujęcie do czerpania wody (na wypadek pożaru|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4520" y="5945040"/>
            <a:ext cx="893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racając poniosło mnie w stronę Brzegu Dolnego a ściślej – skusił mnie drogowskaz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„Prom 12 km, czynn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9T17:56:46Z</dcterms:created>
  <dc:creator>Roman</dc:creator>
  <dc:description/>
  <dc:language>en-US</dc:language>
  <cp:lastModifiedBy>Roman</cp:lastModifiedBy>
  <dcterms:modified xsi:type="dcterms:W3CDTF">2012-04-29T18:15:14Z</dcterms:modified>
  <cp:revision>8</cp:revision>
  <dc:subject/>
  <dc:title>Bajoro</dc:title>
</cp:coreProperties>
</file>