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55C47-3377-481B-AAC6-98B579507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33A49-0B08-4C44-8D97-142FF7CB5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0FEC6-4BB4-480B-BA27-063B874EA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39F0C-C061-4752-A844-718301CC4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CB275-2A35-4E27-82BD-E8EDBE877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1421A-190E-472A-ADAB-E247BA51F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17326-2F94-4A6D-810B-507B77C74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D9A66-7760-40D9-A075-60BFA886E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CDB08-3FEB-4254-AD1F-019524723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61EF3-AE08-4875-B94C-5F91D0A7A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B2370-164E-4E52-8F63-90A71DEFB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FE9C4-E996-4B1F-A86B-D445AC082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0CDFE-2084-43B6-A079-A6EF3B36E2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1440" y="0"/>
            <a:ext cx="9145440" cy="6246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84360" y="141300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50 lat po immatrykulacj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76360" y="306864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ięćdziesiąt lat temu zostaliśm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ierwszakami n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ydziale Elektrycznym Politechniki Wrocławskie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6000">
    <p:split dir="in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951120" y="6375240"/>
            <a:ext cx="719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a wierzę, że szyby są (podobno) pancerne ale ostrożni dłużej żyją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6000">
    <p:split dir="in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308880" y="6329520"/>
            <a:ext cx="43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idok niemal jak z lądującego samolot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6000">
    <p:split dir="in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66320" y="6256440"/>
            <a:ext cx="880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 atrakcjach „na szczycie” poszliśmy z Jackiem (piechotą) do Rynk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 Spiżu byliśmy jako jedni z pierwszych. Reszta szukała miejsca do zaparkowania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6000">
    <p:split dir="in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163440" y="6375240"/>
            <a:ext cx="428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wolutku nadciąga reszta towarzystw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6000">
    <p:split dir="in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381240" y="6256440"/>
            <a:ext cx="533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eszcze chwila i (jak ich znam) zaczną się śpiew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6000">
    <p:split dir="in" orient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90720" y="6256440"/>
            <a:ext cx="58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zy stoliku robi się coraz większy tłok… W tle – Ryne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6000">
    <p:split dir="in" orient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306720" y="6256440"/>
            <a:ext cx="271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amozwańczy dyrygen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6000">
    <p:split dir="in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164160" y="6329520"/>
            <a:ext cx="600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 sobotę zaczynamy od obiadu. Ogródek hotelu Olimp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6000">
    <p:split dir="in" orient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split dir="in" orient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571680"/>
            <a:ext cx="9144000" cy="51418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45760" y="5950080"/>
            <a:ext cx="804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biórka o 14 pod (wówczas) Nowym Elektrycznym. Dziś już nie jest Nowym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6000">
    <p:split dir="in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4875480" y="5950080"/>
            <a:ext cx="426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wóch zadowolonych z życia emerytó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6000">
    <p:split dir="in" orient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-36360" y="-2700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379800" y="6329520"/>
            <a:ext cx="370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ieczór wspomnień, przy rzutnik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6000">
    <p:split dir="in" orient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309240" y="6329520"/>
            <a:ext cx="573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kupienie większe niż na wykładzie z elektrotechniki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6000">
    <p:split dir="in" orient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38320" y="6184800"/>
            <a:ext cx="509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ak mogło zakończyć się inaczej niż śpiewami?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6000">
    <p:split dir="in" orient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309960" y="6446880"/>
            <a:ext cx="857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ę lat minęło, pamięć już nie ta więc słowa piosenek z rzutnika. Jak w kościele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6000">
    <p:split dir="in" orient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360360" y="0"/>
            <a:ext cx="8532720" cy="685656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456120" y="6400800"/>
            <a:ext cx="614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a koniec – prawie nieznany fragment popularnej piosenk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in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028880" y="6157800"/>
            <a:ext cx="67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j, zmieniło się tu, zmieniło. Kiedyś były tu baraczki architektu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6000">
    <p:split dir="in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913760" y="6256440"/>
            <a:ext cx="55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 drodze do Gmachu Głównego podziwiamy zmian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6000">
    <p:split dir="in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8280" y="6491160"/>
            <a:ext cx="91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Arial"/>
              </a:rPr>
              <a:t>Wizytę w Głównym zaczęliśmy od pokrzepienia nadwątlonych sił. Wiek ma swoje praw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6000">
    <p:split dir="in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-54360" y="6375240"/>
            <a:ext cx="929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Arial"/>
              </a:rPr>
              <a:t>Kawa, ciasteczka a nawet przepyszne kanapki. Pokrzepieni możemy zwiedzać pracowni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6000">
    <p:split dir="in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143000" y="6446880"/>
            <a:ext cx="738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Arial"/>
              </a:rPr>
              <a:t>Obowiązkowa pamiątkowa fotka przy głównym wejściu na Politechnikę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6000">
    <p:split dir="in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115920"/>
            <a:ext cx="9144000" cy="60418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433440" y="6256440"/>
            <a:ext cx="787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 południu Toni zorganizował nam wjazd na taras widokowy tego budynk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6000">
    <p:split dir="in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892680" y="0"/>
            <a:ext cx="514332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44640" y="4379760"/>
            <a:ext cx="3729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Zaczęło się robić ciemna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ale i tak widok był niesamowi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Za „naszych czasów” rosła w ty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miejscu trawa a potem powsta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ieżowiec Poltegor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oltegor został następnie zburzo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i w jego miejsce zbudowan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Sky Tow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6000">
    <p:split dir="in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9-30T07:02:00Z</dcterms:created>
  <dc:creator>Roman</dc:creator>
  <dc:description/>
  <dc:language>en-US</dc:language>
  <cp:lastModifiedBy>Roman</cp:lastModifiedBy>
  <dcterms:modified xsi:type="dcterms:W3CDTF">2014-09-30T08:45:19Z</dcterms:modified>
  <cp:revision>19</cp:revision>
  <dc:subject/>
  <dc:title>50 lat po immatrykulacji</dc:title>
</cp:coreProperties>
</file>