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34A-0325-4077-802B-21D58AE1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7A5-2B5D-4D10-90E4-26CB4E3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BBF-1296-4B6E-9BE0-756C3DDC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577-009E-4253-8BCD-C32ECC41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3BB-F08C-45A4-B792-062898CE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D52-5F6E-4EA2-B646-CF56C76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504-A0F5-4F18-A001-52EE11DB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2CA-6F72-4082-B2B9-FA0FB320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D2E-2B66-465B-9DDC-FB7A1224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BB8-AE85-4E47-B15A-E7DAF9A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EC5-B34B-46AF-B3AD-9DD19E19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124-182D-4E6E-B919-F0D582A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652D-9342-4024-9EEB-AE1CED471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24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 lat po immatrykula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ęćdziesiąt lat temu zostaliś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rwszakami 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dziale Elektrycznym Politechniki Wrocław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51120" y="6375240"/>
            <a:ext cx="71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 wierzę, że szyby są (podobno) pancerne ale ostrożni dłużej żyją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8880" y="632952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ok niemal jak z lądującego samol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6320" y="6256440"/>
            <a:ext cx="88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 atrakcjach „na szczycie” poszliśmy z Jackiem (piechotą) do Ryn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Spiżu byliśmy jako jedni z pierwszych. Reszta szukała miejsca do zaparkowani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3440" y="637524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olutku nadciąga reszta towarzy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1240" y="6256440"/>
            <a:ext cx="53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szcze chwila i (jak ich znam) zaczną się śpiew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720" y="6256440"/>
            <a:ext cx="58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zy stoliku robi się coraz większy tłok… W tle – Ry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720" y="62564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ozwańczy dyryg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4160" y="6329520"/>
            <a:ext cx="60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sobotę zaczynamy od obiadu. Ogródek hotelu Olimp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5760" y="595008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biórka o 14 pod (wówczas) Nowym Elektrycznym. Dziś już nie jest Nowy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5480" y="59500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óch zadowolonych z życia emery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9800" y="632952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eczór wspomnień, przy rzutn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9240" y="632952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upienie większe niż na wykładzie z elektrotechniki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8320" y="618480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mogło zakończyć się inaczej niż śpiewami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960" y="6446880"/>
            <a:ext cx="85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ę lat minęło, pamięć już nie ta więc słowa piosenek z rzutnika. Jak w kościele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85327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6120" y="6400800"/>
            <a:ext cx="61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 koniec – prawie nieznany fragment popularnej piosen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28880" y="6157800"/>
            <a:ext cx="67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j, zmieniło się tu, zmieniło. Kiedyś były tu baraczki architek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13760" y="6256440"/>
            <a:ext cx="55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drodze do Gmachu Głównego podziwiamy zmi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80" y="6491160"/>
            <a:ext cx="91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Wizytę w Głównym zaczęliśmy od pokrzepienia nadwątlonych sił. Wiek ma swoje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54360" y="6375240"/>
            <a:ext cx="92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Kawa, ciasteczka a nawet przepyszne kanapki. Pokrzepieni możemy zwiedzać pracow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644688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Obowiązkowa pamiątkowa fotka przy głównym wejściu na Politechnik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041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3440" y="6256440"/>
            <a:ext cx="78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południu Toni zorganizował nam wjazd na taras widokowy tego budyn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640" y="4379760"/>
            <a:ext cx="372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częło się robić ciemna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le i tak widok był niesamow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 „naszych czasów” rosła 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ejscu trawa a potem powsta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żowiec Poltego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ltegor został następnie zburz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w jego miejsce zbudow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y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07:02:00Z</dcterms:created>
  <dc:creator>Roman</dc:creator>
  <dc:description/>
  <dc:language>en-US</dc:language>
  <cp:lastModifiedBy>Roman</cp:lastModifiedBy>
  <dcterms:modified xsi:type="dcterms:W3CDTF">2014-09-30T08:45:19Z</dcterms:modified>
  <cp:revision>19</cp:revision>
  <dc:subject/>
  <dc:title>50 lat po immatrykulacji</dc:title>
</cp:coreProperties>
</file>